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2-</a:t>
            </a:r>
            <a:fld id="{648D3506-6190-45AE-B359-7C0A86A5ECBD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143000"/>
          <a:ext cx="37339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3733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other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first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43000" y="3276720"/>
          <a:ext cx="464508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76720"/>
                    <a:ext cx="46450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9320" y="1219320"/>
          <a:ext cx="571500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57150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2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Algebra of Func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sum, the difference, the produc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otient of two functions, and determin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s of the resulting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difference quotient for a fun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ums, Differences, Products, and Quotients of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unction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the domain of each function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50840" y="2971800"/>
          <a:ext cx="6224760" cy="20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0840" y="2971800"/>
                    <a:ext cx="622476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, find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We can fin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5) provided 5 is in the domain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. This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=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5 =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7 + 15 = 22 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7 = 2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68560" y="2654280"/>
          <a:ext cx="393984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654280"/>
                    <a:ext cx="393984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other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g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real numbers. The    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so the set of all real numbers. The domai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et of numbers in the intersection of the domains—that is, the set of numbers in both domains, or all 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g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ust exclude 3,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other 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add the stipulatio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3 is not in the domain o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971800" y="2438280"/>
          <a:ext cx="2276640" cy="205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438280"/>
                    <a:ext cx="22766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fference Quoti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95480" y="2590920"/>
          <a:ext cx="2514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90920"/>
                    <a:ext cx="2514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990720" y="1295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io below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 quot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rate of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fi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quo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first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4038480"/>
          <a:ext cx="213516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038480"/>
                    <a:ext cx="2135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473280" y="2209680"/>
          <a:ext cx="2349720" cy="8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2209680"/>
                    <a:ext cx="23497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7:42Z</dcterms:modified>
  <cp:revision>213</cp:revision>
  <dc:subject/>
  <dc:title>No Slide Title</dc:title>
</cp:coreProperties>
</file>